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468-EB11-41F7-ADBE-6BF530EF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31E-958C-4E7B-9CB7-49FEDCC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2EB-1BE8-45C6-B7C3-40BAFE6E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EA-C825-4006-8C00-EDEC23B8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3F5-5A01-49DE-BB4C-9A2C55E8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471-D680-43D2-A9E6-677125C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DD5F-BFAF-4537-97F7-126DBEA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D77-AF15-48FE-8154-FDE32DF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C5A-179C-47F5-8FF4-E4410C3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29C9-3127-486E-9EDE-B368A1B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4C1-98BB-4C4A-BE8F-C519D9D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5CC-F5A8-4171-830A-4BB8F132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826-BB8A-4125-A6E7-084522D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522-D2C4-456E-AA5F-578B22C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F993-C36A-42E3-BFA5-0C227246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80D9-7D74-4FEF-8449-FCD0EA2E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454D-306D-46B8-9F3D-E6250FF6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A10C-C651-4288-A09E-C238A7B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1189-456E-45E9-B8E3-A8CF50A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8B9A-6D0A-457C-8D4E-2E6717C7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E1D1-D748-4F5E-B16D-330A0B3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C3CB-7B24-45D7-B678-1319AA9B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F22-DB11-41BC-B908-6F72714A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1155-3FD9-4F3A-B553-9D63B4BB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B8B5-E436-458B-9A0B-41CE040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1288-2BC0-45E5-B53F-56B4C980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DD88-56FD-468E-A0BF-BAA5E96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E901-B207-45F9-9D7C-802D9EF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0944-A862-487F-A645-D67E6FBB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52AC-5AA3-4E2A-A1F3-850A1BD5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7766-79F2-4DA2-90DA-F8B57A06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23EC-EF97-49B0-86A8-898C457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A735-B7C1-4222-B58E-AC59CEC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3CD-8FC3-47A6-84EF-ADEFFED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F9EF-201E-4C4B-A1CA-9EA432C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B553-17C2-4EA4-9D9C-7C4356A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E3D8-2E43-43B2-B980-7F7609C3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7E61-7EE7-48B8-AF71-E78FAAE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B88A-F433-44E1-8125-45F2FB85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A4F0-E833-46C0-9C47-E054272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38CF-45BB-40F7-B622-2F0353C1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051B-452F-493C-BBD6-9F949541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AC8F-356E-466B-AAC6-3C6EACFC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99F-5B14-4F91-A4A1-69F77C8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05C-5582-49CD-B955-7EE66E2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367-AD17-453D-B097-6A81B9D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3E6-8BAA-441B-8069-C53A66C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379-1A7E-4CFC-8662-6667F414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B5A-CBC9-4111-A976-3B018ED19E5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4C5F-8461-4F66-B652-4B0A78D13C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1E0B-40FD-42E1-A4A5-4182D198FD5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212-32DF-461D-90A8-02C7BF3CA9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BBA3-5D51-4ADA-9308-06925C8AF3DA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112-ED61-4ED7-878A-610B9B5796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6ED-B27D-4489-95C0-27BF4393E85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BA7-1370-4DB1-BB47-FF269BE25B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993600" y="165240"/>
            <a:ext cx="8077320" cy="3601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6DF-CBB5-4567-B0AE-8B76190E03F3}" type="datetime">
              <a:rPr b="0" lang="en-US" sz="1200" spc="-1" strike="noStrike">
                <a:solidFill>
                  <a:srgbClr val="d1eaee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Verdana"/>
              </a:rPr>
              <a:t>MR2100   (C) Paul Tilley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F48-301E-429D-9E33-3E532B249C9B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600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 Product Life Cycl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ength and shapes of product life cycles will vary depending on the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ical variations in life cycles inclu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igh Learning Products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very long introduction stages because consumers are forced to learn what the product is for and how to use it.  (DOS based computer progra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ow Learning Products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 fast rise to maturity because it is easy for a consumer to learn about and use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d Product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n extremely fast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shion Product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 recurring life cycle whose frequency depends on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16E5-E977-46D1-BEFF-8F5A2BB9CB4B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2E6-2423-419F-B401-FF8FED9C4CB8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tors Affecting the Consumer Adop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600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age barriers - the product is not compatible with existing consumer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lue barriers - the product provides no incentive to change us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 barriers 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ltural differe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65F2-34C8-4C52-AF26-62646D6C495A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ADA-309F-4352-9932-81F99FCDF98E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815680" cy="152424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395-6A48-4C4C-9A89-04886798A18C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E5D-096A-44AA-83B4-7DE5681965AA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457200" y="2057400"/>
          <a:ext cx="8001000" cy="32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800100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naging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organization would like to extend the life of its products to as long as pos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roduct Manage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manages the marketing efforts of the firm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roducts can be modifie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o meet new nee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Markets can be modifie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by creating a new use situation, or by finding new us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6BF1-18CD-45EF-AD7F-186B4A2E5ED2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CA83-AB4C-49EC-9FA9-4F00EB58DE0C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duct Repositio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ge the image of the product to extend its lif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s triggering a reposition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react to competi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reach to new marke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catch a rising tre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change the value offer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de up  - Raise the image/features/options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de down - Lower the image/features/option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0A4C-0B9A-4799-915C-778D3DAA4A3E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87F-411A-4170-AC5C-9639A2AB2E9A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brand is a name, a phrase, a design, symbols (logo) or a combination of these to identify products and distinguish them from their competi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de name - the name under which a company does business (Apple compu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demark - the symbol (logo) that identifies the company and its produc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FBF7-5444-44D6-A696-6D5A3BBBACDE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20E-944E-408F-93A6-570F246661B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Value of Bra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good brand name improves the value of the product (brand equ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and equity provides a competitive advan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Brand name endures changes in the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B4A4-F444-4703-8040-E9765EC01240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987-2864-46BB-B672-1E26CE9C16F3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and equity can be sold in the form of licensing arrangements.  Other companies pay a royalty to the original company for the right to produce the original companies product.  The original company is then free to focus on other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13E5-D4E5-4120-BBE4-F31BA964707E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FA8-8771-487A-84E7-1E9379E9048D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nding Strateg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81788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ufacturers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-Product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uro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brand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obal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ed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ic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9D63-BC2D-4425-B76A-556237852496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A26-812C-49F2-88B1-0D928307F7F3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ckag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ckaging serves three major func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munications Benefits - it helps sell the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al Benefits - It contains the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ceptual Branding - the packeage conveys image and image change to the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70B-A29E-40F0-A029-F9A6D65487D5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936A-5DBB-4830-B74A-5A10C6A9DB1C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rom Developing A New Product to Managing the Produc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51460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10 focused on the development of new products.  Chapter 11 picks up where chapter 10 left off -- The product has been introduced to the marketplace, now it has to be managed in such a way to maximize its revenue generating l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BBA3-E095-4A6F-8A89-77FCCEF7276C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0D6-ABBC-4B2C-A861-B61D763F9F04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lobal Trends in Packag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ng with custom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vironment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 and Safety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t Re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CED-ED7B-46A9-8E87-6FE831AEE6F1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045-036F-4441-AA70-7BABA9964D8A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duct Warran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warranty reduces the risk involved in the purch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esent a significant marketing advant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B242-5B44-4D27-885C-2F9D8E462809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0EA1-1FFC-4AF1-8DFB-67D70E12D0D5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sp>
        <p:nvSpPr>
          <p:cNvPr id="2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728-CD3C-4C66-BF87-4E1B557232A2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909-12AF-47AE-B777-48B71A3D22CC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838080" y="1981080"/>
          <a:ext cx="7543800" cy="41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54380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troduction -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an unknown entity in the marketpl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es are building but there is no profit being made on th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int of advertising is to make the consumer aware of the product and to inform them of its u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little of no compet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0E9-63AA-46C7-8890-143210ADD438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258-3153-4661-A5D2-41222FF50840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troduction –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ice is set either low (so as to penetrate the market and sell large quantities) or high (so as to recognize that few may be sold but a large profit will be skimmed from each product so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only sold a relatively few outlets and is not widely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few if only one model of the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E4D-2DFA-4FB3-A24C-86308434FE14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485C-F01E-4158-894B-A27AB93580F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 -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becoming better known in the marketpl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les and Profits are beginning to ris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etition is growing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oint of advertising is to make the consumer aware of the differences that exist in their product and competitive produc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ice is set to gain/maximize market sha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sold in progressively more outlets and is becoming more common in certain stores however it is not widely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product models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BA8F-F2C9-4914-A62F-261DBB59DF90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94F-27DC-4111-8CA3-347320CD3A58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urity -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es and Profits have maximiz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are buying their second unit now so the goal is to maintain brand loyality. Advertising is reminder ori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mber of competitors have maxim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models of the product are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available in the maximum number of outl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0060-239B-4924-9AF0-FCD4DBDD7D92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0002-14A7-4092-92BC-C4B58EE446CC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line 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les and Profits have begun to decli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ople are buying newer products that have replace this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mber of competitors are decline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ly the best selling models of the product are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available in fewer specially outle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is little or no promotion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is point the Producer has to make a choice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600-6B9E-42E1-9D40-2720343E85BA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853B-559F-4B47-9FD5-0ABBE7A4D376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ce the Product is in Dec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nies usually want to find better ways to use their resources once a product begins to hit the decline stage of its lifecyc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Basic options for the decline st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lete the produc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stop mak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rvest the Produc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Let sales continue as they are without expending resources on advertis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ract out the p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Get some other manufacturer to make the product.  This frees up the company to make and sell other things while collecting royalties on the contracted out produc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E76-D5DF-4296-BAF7-C844E4A36F1E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DCE-BFB2-4619-80F1-1FCF53EC456B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18:20:22Z</dcterms:created>
  <dc:creator>Paul/Evelyn Tilley</dc:creator>
  <dc:description/>
  <dc:language>en-US</dc:language>
  <cp:lastModifiedBy>Tilley, Paul (C'ville)</cp:lastModifiedBy>
  <cp:lastPrinted>1999-01-18T14:41:12Z</cp:lastPrinted>
  <dcterms:modified xsi:type="dcterms:W3CDTF">2012-01-04T18:15:19Z</dcterms:modified>
  <cp:revision>14</cp:revision>
  <dc:subject/>
  <dc:title>Managing the Product through its Life-Cy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